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FD9-0B03-435C-93D7-4C947BBF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2E6-2F36-4D36-8C51-578B29F1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043-DCDB-46FF-85B9-EC171952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67E8-98AE-4CC2-BA3D-2F31E841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BBB-E480-462C-9E50-FD888053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325-EAF1-4BE2-92F1-39DCEE27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85D-80FD-43A0-8359-E819E406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856-950B-4A91-AE15-F92D5528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50D-BD0B-4E4E-9F96-FE304D7E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CF2-382B-4A2A-B4FB-B0D653B3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EE3-5DC1-49F7-A547-FB661ED5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348-7434-4840-80AE-0C23F9CB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5B4D-1E8C-4585-B46F-BF59EB152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erciful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maker and our judg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sinned against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ought, word, and d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our neighbou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pent, and are sor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our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ove and obey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newness of lif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5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1800" spc="-1" strike="noStrike">
                <a:solidFill>
                  <a:srgbClr val="bbe0e3"/>
                </a:solidFill>
                <a:latin typeface="Arial Narrow"/>
              </a:rPr>
              <a:t>An Australian Prayer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8:27Z</dcterms:created>
  <dc:creator>Anon Anon</dc:creator>
  <dc:description/>
  <dc:language>en-US</dc:language>
  <cp:lastModifiedBy>Anon Anon</cp:lastModifiedBy>
  <dcterms:modified xsi:type="dcterms:W3CDTF">2005-08-16T04:22:44Z</dcterms:modified>
  <cp:revision>15</cp:revision>
  <dc:subject/>
  <dc:title>PowerPoint Presentation</dc:title>
</cp:coreProperties>
</file>